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EB3-6195-4930-BA12-97246B14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62E-D451-4DCB-A348-C4854219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E340C-F9D2-4D0C-9F8E-90CF1553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C7861-164D-4A22-A8CB-53E0B41C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A6895-6998-4ADC-8E49-F18F794E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E7187-4484-4BF9-8484-A70D3F5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2636F-A278-47BB-8B83-A195EC89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A52B4-A893-4648-826F-17E6ADCA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34EAB-15F3-4903-B53B-347BA1E0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CCEB8-1FD9-4B34-A5AA-F280F946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9B0E9-C529-4F24-8655-7293E1C3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893D7-4E80-44E6-B45B-9E30363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1A2-136C-4774-A08D-6D7A7208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3EBEE-B74F-4D04-852A-3196A41D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FC614-4D28-4D87-BE1C-A2DAF5FA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DDCAC-767E-4145-971E-21927A9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471E0-A253-44DA-8C93-0E90E5D4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89072-DBF4-4FBD-997C-521648FD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42329-6286-4D68-83E5-CAD206F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D4595-E649-4AD6-B1F5-DC97F94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26277-2FD7-401D-8D3B-4AE955E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37CBA-56E7-49CC-9FAB-B51C418F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4364E-7851-48B7-B93D-9FE07E9C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532-36ED-440A-8BBF-4EF1B4C3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B4A16-FC14-48C6-A721-CD9458EC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73F57-EF75-48DB-8CCF-AF7438F7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BF66F-6FDD-4EFA-AF29-E5C5688A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9C454-CE6C-4F52-BDAD-F6749609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0EFF-567E-422E-B244-C6C8588C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1D520-61CF-43F4-8E55-156BD813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77AEA-7207-4661-878B-CAA35526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FB118-E573-41EF-BE0F-6D0BC61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3669F-289B-41C7-BA57-CDFA2EE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8766A-3326-40B0-B50A-F172E69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1CA3-9B3A-4BFA-9A04-88A5B8C5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BC515-4525-4BC7-8A06-D86E117C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AF1BF-787B-411F-878C-FDBA27F1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6B51A-9CA0-4736-A11C-EBBD0860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C937E-381C-4B4D-B039-2B19B37A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81037-E39D-4FB0-9DE4-E5C39357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5F530-8669-43EA-8B67-C905F266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9108C-0E7D-4D48-BD6C-9A1E2B5A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DA681-A5B2-4E65-B9B4-42C4DD37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5A7CA-482E-4765-A9D8-57A746F4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95A73-F4E4-4FBD-B656-51DBFA2F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A401-CDCC-485B-9F0F-8C5A71C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A0FD5-6EF3-43B4-97B4-D46825EF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724A1-4019-462C-97C4-615213EB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EEAB5-4E93-4BD1-A019-77D36B54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D665F-F627-4C2A-A4BB-35C6D5BA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844CA-A6E1-4381-8613-3A5A8F01A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1854A-7455-49C9-BFF5-27FFDF1D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20937-0E15-42D1-8A87-43B1663F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9B273-2AC6-45D3-82E4-62B26C0D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75646-41A8-4C8A-8AC3-C617C2F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D0B79-2E22-42B7-9750-43055BCE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25F0-B789-4690-B92E-8AF7A13A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83C53-A290-42DA-A7EF-284F3617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EDB8E-CACF-4DB0-930E-514B724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8EE522-2FAF-4862-A2C4-FE702FF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CEED6-6915-4C8F-8D1B-48C14FA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711F4-EED0-4606-A7C2-5F0CDFF3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B8F5B-98A6-487B-8FBD-85F22AE5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ABCF9-B041-4CD7-92BF-DAB142FB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F9424-0C94-4625-8D1B-4278EBDB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CF92A-EE2C-4968-96F8-FADF9E10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A52EF-6969-4359-A855-F024D4A8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2DC4-3AFA-4562-8BB2-97530E8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44D90-0E9E-4319-9C89-9BDB028E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6D92B-83FC-47F6-BDE1-891414E5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63695-B9D9-41CC-B2EE-FC3FF957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91DE1-5B34-410F-B234-9428AF5C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74388-E5EE-48F1-826E-27AF19F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5C1DA-EF19-4E5E-96D2-1D355A37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B08CE-9494-436B-95B0-168BBCDB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ED84A-F111-488C-8012-D5DC49AA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1356D-9FCB-46F4-8E38-51BF9C1E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87B0F-6C1E-468B-8DAF-FA2701BC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4AA1-6B38-4730-A636-8BEA47D9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4CD8C9-85F7-498F-876D-42EA1E73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FD6EF-7984-4CF5-9D4E-96A3FE5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9C0BF-9E17-42B6-9D82-06255912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2BF48-B981-4C4E-9190-C1C9166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4CCFF-2ED1-4712-BC23-068313E0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2A3A8-B879-4397-A5C4-024F707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4DA6C-90EC-4444-9A48-F0AC7E7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0E204-FE8F-456B-8519-96E2C552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EDD86-E54C-4E58-B8E5-73E4403C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299215-285F-4DE9-9BC2-0B4EFA06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4E44-6260-4F57-901C-5DFF2193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01300F-1318-4332-96BF-DA929419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4F4E56-DE60-4134-A810-77385870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6FD57-323C-4937-8C20-758B079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6C844-3752-4785-BF08-D4FA6AA9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CD0E0D-A646-44B6-980C-25188BE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6F680-1E67-4EE7-9713-2235AE1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71BA0D-7F00-4F52-A828-2C2CDF22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FAD63-B469-4540-A0DE-C86D2BB2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E85F9-E807-41C6-86D0-4BE691F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7F5C9-4161-47C5-93EC-60546199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A104-2160-4894-81FF-8D36639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E57D49-EDD8-4396-9937-CA037E1E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3A550-8C14-45AB-924C-07951A6A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9A4C68-8AAB-4F0C-AB13-39A10DAD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FD0D7-1C02-4EDB-866C-426A7BDE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1F1E6E-4FB9-4286-92FA-48D21B4B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AF868-A127-4767-B77E-D345801C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4AA25-0B41-4F47-953A-5FF87A79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84F4F0-5447-4B18-943D-3ABCEB21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66F96-C4B4-430F-89A5-AD94AF07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AA9A6-1313-4CA7-9BE4-7ACDE4FF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2E9-CDB1-4FB9-8381-3F280847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3253-BF70-4BA9-A3D6-8F1C0F5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395E1-B3B1-48F7-8F0B-B8CCBBD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0653F-9FFC-4ED6-81BE-160A8D2A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8C570-357E-4E6D-BB50-EE1515EB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813324-7B4E-4B5E-8FF0-5E223610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87C2E1-3C0C-47DE-9022-2632806D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F15696-3E8F-4CF6-AE9D-2253AF81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1AA4D4-7D9E-47B1-825F-B4260AA3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D2E9B-A695-4A5A-9F2B-41824402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BDCA3-93E1-4427-BC14-A20CEF0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11152E-CECE-4F25-831C-C7570109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B371-3834-4F9A-9B33-79115C1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7BC0F-3630-4DC6-8290-6DDC9799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230B1-6EF9-4180-983A-D060E30A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6586DC-D887-4659-8292-602EEDD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2F4A4D-F575-4954-8333-F1387EF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809D8-D271-4BDD-9C70-D9884191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FCED6-51CE-47B6-8469-D94B25AD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3C0C9-D512-410C-B133-5E405EA2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FB260-232A-485A-B68E-3FB3FC68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5AAFA-7DF5-4913-B0E7-97282A36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C55D9-8B3E-44E1-8A15-82954D72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1ABD-D776-43C3-AE8E-3AF4B125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C93BA-389C-4341-A402-6DBC7836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90EE8-30A8-42BC-8D33-83B65E2B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A0A30-7D78-414C-878B-D6A64B46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7B21A-CECC-4F1E-BB34-744CE43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773A8-E2D8-4354-9480-622946A3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B6116-E12D-4A81-8F04-341811E9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8741D-1988-41AC-BB61-D25DABFD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EE531-4703-4B34-AA01-0E0A72FC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3C7C8E-2EB1-403D-8AAA-41C1FEFAC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458D6-4598-448D-AB94-9F1FFF42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6503-3B6F-41C8-8F39-4A51905E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13E69-8A33-49DE-BD12-A9E4D232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05A80-740D-4413-A6BC-045B8E73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7902CD-8D5C-4862-8AC1-636E227C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8B026-B3D3-4209-A96B-1286C13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51D77-D68E-4233-BE17-AAA538F2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4E84A-0B45-48F6-9C27-71C1645B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60FC56-5AD9-4E67-92AC-EF0E39B0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3D3CA-AF66-4CD1-8B3F-4235F85D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990F8-8C0B-440A-B0F1-B4432B25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1DA07F-1DFD-456A-82F6-2A1955CF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4665-4A5B-4879-8F3C-7073DFDF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1E6728-68C5-4AA7-A00D-1CCB60D6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DCCC8-73BB-43F3-84AC-74C49954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F2533-0993-4931-B933-0BA0B58F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F56887-720D-4CCC-8966-45CD36F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4F255-37AE-4E7F-A441-BC8DF26B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8F8AD-3D89-4114-B095-87D1C356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138729-CEA5-4F55-A48C-9FF70309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247D5F-5BDC-4E32-A77F-0AFFDDD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92FE9-BCD3-4784-8936-66C60CD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AC35D-3282-4AFA-9C11-C7BCAE01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54800-6507-4906-B4FC-74D696E1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E8E382-EEB6-4B4F-8AB4-D5F0C36E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038918-A5D1-4D8A-BD4E-4E39162D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0ECF2A-8F54-4B3C-A792-4FFA9537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24DD4B-5BEF-472F-A4F2-6C4F5D5E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7AE1B4-AAD9-4890-88A8-FBD2075E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31122E-47F1-49CF-9090-6CC682DA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95D38F-D307-4030-A4E5-BE94A127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0C69EA-8894-416C-85A6-502029CA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DD2183-6225-4956-AF3C-8409EBEF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0CC628-D7A1-4B61-95A5-2754BF8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2A17E-31AB-4778-BE49-F8D27186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6D2BBE-2BB7-4D7E-B3B3-DBF88BF1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B7156-4A5A-4B03-A26A-42CD4F29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D0C23-A02B-475E-93A9-20D1B985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7FAED7-2A63-4B55-BB15-6D2DCC64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CB117-0B8D-4553-9145-1731AF31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5E8E32-1A79-4346-A597-1EDD3D44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2AAD0A-F368-4C1D-A0E5-2D09F5C3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AFC0D-DA0B-4052-A51F-0B785901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CE878A-D734-43E6-B6AB-1C6A77A5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6310DA-DED9-46F5-9150-F5B4A884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B92E-DC5C-4D36-A614-D79AB67A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98F041-1F49-4DEE-BFAD-17C6FAA7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DDF7A3-61B5-4A41-BD34-A97A8D8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08ADB2-9747-4CEA-87D6-65E1D23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32F04C-0C46-4F22-A40E-7732A09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F3445D-7A57-4EE6-84BF-DB165D34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267FA1-A609-4881-B314-66B719EE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5330D9-5143-4099-AA4D-654E6D94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7E700F-DE5A-47BB-8F3A-0D4BC803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C84620-FDEA-43BD-9501-C30F977F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E59C04-2B28-4F51-BD0E-0FAA6F27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15C0-132F-4C0B-B294-B301755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DA7581-598A-49C2-9617-084FB69B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929FB6-BC25-46B5-B5D3-E31F3CAC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403F62-1C9B-406C-96A7-B2DB48DD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C41987-18B9-45F9-A341-8801453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4723CF-EFE5-4606-A3C0-5E14595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0E1AA9-0A52-450D-AC6A-86D4BF64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13E5AE-3638-4F80-8C81-AF9EBA01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B8011D-FE4F-4818-AF5C-DBC339BC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0437D2-8196-47CB-8C22-2E451C29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DEB250-B0D5-4C56-8CED-8EC1A20F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CF32-8851-40A1-B77B-9361C14F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E5CFEB-9DCF-4EC6-A87C-E126415F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3852B5-5872-45AB-99EF-9C7BF12A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B92455-A308-4B2A-A26A-DC57ECF2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231A7D-E506-42BC-AE8F-7A0B6F67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4BD343-525B-42ED-B353-80E956B9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81908F-9CED-4F16-820A-3325FD5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032EC5-760B-46AD-8405-D42B865D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49C22E-A870-43F3-B6E5-4732EED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AF15E6-6FA3-4B1E-8352-41F3B41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65C73D-EDE7-4A47-B05D-757F6431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DB0-7843-473A-894E-B5909A51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2E65-6B8E-4148-B44C-33D654E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D37A7B-6342-45D9-8B0A-3D82962C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517024-08B7-4C7C-928B-8AC2E664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3E4F4C-D421-41DC-848D-AE36DB8A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4DB9E4-AF9C-420C-A0B8-F5B6A1A0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61A077-36F2-4C4F-95CA-2AA1EE06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847997-C47C-44CD-83F9-A8D1B766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0182EB-702C-412D-8BD0-19531C87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044DF6-55FA-4CDF-81E3-91B6AABE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3F1411-915E-4256-B73D-31460DD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278457-E4FF-44C4-921C-10D76E8A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7CA5-3E4D-4B5D-B2B8-DE71A93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C126B1-243C-4555-97D5-607EDD5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71FF14-3D7F-433D-927D-CC413B89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8B5C73-87B4-4B12-AA50-AD8BCF21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F2CDA2-9056-4072-B551-70AE4C43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08B8A6-CD60-4321-BE8C-C301FEF3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3DCBDB-98A2-4C28-8E24-49B5F3E8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0C6EB0-3B0F-44D2-866B-381A89CB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F8B33A-4803-4864-92A5-758AA0A4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A36FC5-8F9F-451D-9264-E3B6AA1D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798125-63AE-46C7-ABA9-A3A02AA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03F90-802B-4E2C-92CB-909E14A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6E2311-C351-4E25-B580-B32E2AB8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51ECB9-3D0D-4BDC-9C41-2DBBBF09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7AC46C-4972-466B-BE53-ED658AA6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ADE850-EEA7-4FDD-806C-4D4C9627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3457BE-5D8B-47B2-9584-8FE0CD29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69BD20-FB05-439D-B266-8CAAA2E0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B9DD9C-FC57-4411-B26C-1EE1E99E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06546C-268D-4824-A199-8D6803E2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706C52-39A9-4A96-A694-B5A44F28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0615D0-BFBA-4335-A10E-8F0F4E95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711B-6250-4A69-AFD4-F99588E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50AE02-BEE6-41C3-AE03-933895A3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FA6DE9-952B-439F-853C-838B494E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9039F7-91AA-40CC-8D81-57444134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E1F80E-29BF-430F-810D-4F1CC3D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9D7F74-8D13-4708-8CF9-877F877B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79625A-E862-4D5D-8F5E-15DB30AE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BAA2EF-C2B4-4EF6-A114-4C23BA03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EF6433-EB67-405B-B8D2-1D3E50A3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392F08-8101-450B-A6DB-26BA8CFE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AA3858-7245-46ED-AA61-EFFDABDA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65C3-B136-44CE-ADC4-94638B3C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FA0C37-C434-4626-84C4-760C27E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08EDC0-FFCE-4B6F-927C-5E490F08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BB393A-3DBF-4449-8728-BF462805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E0EC67-0BC5-424C-8FAF-06CBCCF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C523C7-C320-4BE3-8D03-27B0648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5B0CA7-29C6-49A6-90B4-155DEEDD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A49E59-C662-4663-AFD7-72E26815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13839E-0607-4F05-A2D3-FEF69BFC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A8441E-0C08-4386-8F7D-165F25F4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223531-754C-40C7-B071-21A93F84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0AE8-5E15-4E64-AA95-AF21C772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DA2595-2594-4744-B512-1FF9A9FA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900E3D-90AB-4273-9368-C3C2233A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2BF671-5C23-41EE-81DD-CC428A4E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F948DA-22DB-4F0B-BAB7-1CF5A698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9ABA6D-78F4-4673-BD5E-8A6C7FF5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CA8B70-C22E-402B-B558-FCE77E0D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A250FB-42F4-4F7D-BE03-F3D44CD9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E1A3B2-9068-48D5-A460-C9876E2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796DE7-64DB-47DB-86DE-2EC7C4F3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30B4D5-D60C-4590-94E3-A19772C8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1A1E-49ED-4C5D-A019-C7985CB3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3A5FA1-37A5-4076-87CF-E58EDA51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5EBDC6-9962-4316-ACC9-04AED81B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6834AF-7E10-4F78-804F-5148C6D5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13E222-25EF-4D68-8937-69AC1E1E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5CCBEE-FC46-478F-80A8-6C7B89B8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69592C-386B-44B7-AF13-BB5AAA66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708A9E-EE28-4198-9D21-FF4F7A50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C30ED4-9CCF-4ACE-8560-B9895102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9E7D97-C212-4187-8E1B-2BBA0CD7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3CCC9D-ED96-4C8C-890F-6FA594D4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33822-8E68-4021-A8B7-0A63E38A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D03363-057A-417C-94F6-C7EA65BD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4113F2-49F1-478B-996D-EA5EF721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4DAA87-4D8B-44FC-BBAE-AE945EBD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8DB5D-F61E-4726-9E2E-07A48212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5718-9BA4-4006-B0D8-5207B290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A6F-DDCD-4E01-9877-6C61AE66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F347-30D9-4900-9B6F-E1D9B562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7619-15F4-4C6F-A450-78E2525E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22E2-87F7-4B07-9753-3CCD16F0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4089E-FE46-46A9-B781-3ACC9D8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94BF-39A5-49DA-903D-4745C859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875DF-D373-4E69-99E0-F3BED842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AA48-ABED-416F-9E1A-02A4B88C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23BE2-C08A-44F6-80B5-1606960B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4CEE-28E9-4374-BA4C-A08EF2B9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2EDDA-B092-4661-AE9E-63B5DB14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45D-E0E9-4769-BF03-B9D94E01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25CE-497F-466A-B666-181B5F7E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6A17-F34A-4408-A286-78BE9574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9EFB-808C-4B4C-B01E-636391C1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D037B-F773-4795-AF3E-D5E5CD32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416E2-FB9F-4687-B9D0-F79C2227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A8DF7-98FC-45C4-8C87-C5A487E3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A062-8511-4F65-B9D5-5D660B3E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BE335-795B-4380-A515-E2460E1F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62C52-7909-40C6-8EEB-657D8AA1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972AE-103A-49A6-8242-D4ABC0E5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806-CEEE-4765-A4BF-7F78BE9E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65E3-907F-4EFE-936C-A46B006F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F71D4-3B2F-4E03-95CE-9C350199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44A29-CDC4-4817-8ED8-BEDB41F8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D2505-7E9D-4D48-BF09-23C3EA45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28B6-5D49-477F-BE47-E4113BE0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56694-69B7-4CD4-B93A-F66B5C12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70441-CC5A-4B6A-BCA5-6034701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9B3E7-BCF2-4D6A-B28F-377ADD6E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436B6-5899-4F67-B973-83633FC7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78294-255E-408A-887A-AFC931D8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AB2-8B72-439F-B8FF-7D7CC2DE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B4A4-9DBC-4C0C-8B72-E5BE2CDD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811F0-FB61-4A45-B9EF-E3A1178A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9D8E-79B7-4912-8FF3-1598A476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62C80-4E36-4176-8C0A-2E1C4364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DF18-FB78-4EF7-9185-892A183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A654-473F-4626-980B-0FC3A304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37C5F-8BF0-4C06-9536-27A7E6D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A7920-AE01-4BB6-8CAC-3BC81C41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684A3-2C86-495C-8B14-CC8AF403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5F79-A40B-483B-B8AE-2E1ECA3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966-CB5F-4C59-A265-F5ED92EE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1158-0F03-4B7C-BCB0-5D8DB570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F91FF-1000-4AD0-8495-28403D0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4F286-CD97-413B-BABD-4AC59A1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C9D43-C727-43D5-A661-30ACA645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96EF8-9474-46D8-96AC-CBF04C20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072D9-975C-4107-96CD-38C93A15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2F346-08E3-462D-A5C3-5C1ADFFF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2B9F2-3565-451C-BD74-7345FC5D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4D3BB-B891-4C99-9F00-1F237C4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C7DAF-0978-4754-AFEA-60814269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BE7-6C0F-410F-A8F2-C65A3EF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1E71-1ECE-4520-8174-F23D83F3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5174-572B-4746-B4B4-EF220D8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E11E9-5A9B-4ED9-8D6B-ECADF8E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F4B49-D973-42CC-A0D8-ADAF2076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8C861-DC0F-4D60-AB4A-D555F4C9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F0BA2-7DCD-481B-A8C0-C80BACE0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D59B9-5161-45F2-BBD0-C8094ACD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660D8-FBFE-4A7E-B275-B2553FEA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2A77C-FFC5-47E3-B30B-688C0D2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95901-5F75-4552-B0AF-6164CFC1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D6FA-EECD-47CE-9569-09377E28FA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4BCC-0CD5-4D29-863D-26BEAE52DF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1C52-4F8B-4B34-A5B4-080B840118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2732-D3A3-4105-AF21-B13A9B8682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52D-6E1A-430C-A644-73C9AA274D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3ED2-65D2-491C-A167-02515A1E3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71F4-26E3-41B8-B3F4-FF73B9C2B2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57BA-B18A-42E0-AA1F-2A11DA2C3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0152-F42A-4850-AD6C-E1E26A85CC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7021-7BCF-4800-8D5D-F99232824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7CF9-E911-48AE-A7A3-479F0DD60E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56BF-CD18-451E-B860-3571FFD2C9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F1F9-D0DD-41D5-8283-5B8C811857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84E-C380-40B9-B91B-33B43839A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AFAB-18E0-41E9-9A89-A8168DEB3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BB17-C560-4E14-8D04-D275872988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5690-0B33-4DF5-A6F3-FFF708413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7B55-097D-4D4D-B852-76DF003A39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866C-D351-45C4-BB4D-22D3E8B051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8528-1BA7-4AC4-AB56-2D23988CE8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B34-D96A-4F92-BE1D-631B3F5C66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9C4C-AA6C-48D4-8C0E-FFBC23487A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EBB2-06F5-4E77-BB27-B6BE92D917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BD7-5F87-4743-9C0B-CF3744D0E4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63B5-C8CE-411B-A7CA-AE7623BD2A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0B80-0B32-4790-8D82-AA3D768510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4171-7209-4249-A1F2-700CF3498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2729-C09E-45DC-BA18-D523CEF23D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2197-827D-4853-9298-F43C1FB4CB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F3B7-96A3-456A-BD28-7012F1C4EF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8DB5-D46B-4833-B65E-2F6C842901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4147-E12E-4CEB-9392-979C58F0AB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DB62-5371-41EA-BF26-8AA97A3AD6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11BD-C20A-4CCF-A702-59BFA9090F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8040-6ACA-4E6A-925B-692E32DA43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A26C-F152-4C98-B290-A38C6BE8AB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47E-A057-4E94-BCCA-308603E859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381F-FA31-4615-BCAB-DBFE6100D7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2B48-963F-4779-91FE-DFE7706A2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2610-D248-4976-A158-97BA193477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84A9-4359-4BCD-83B8-069E7EC51A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1850-DC6D-4D11-91FB-F7D3ED1236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418D-A57C-4D19-8EA6-4B1200065C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1027-142A-4C67-8644-0B83C5E2B6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25C6-C5BF-44BE-93FC-FC78C40201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1E1F-5A82-464B-B16F-C59016E7C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960-2DF2-41D2-8555-BA2E1E9591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CD4-F89E-4449-A713-FF8D8568C1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5D4B-7C95-4CCF-A297-075FC860B6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2A7-3E1E-4B87-BD1F-020E7FB11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1857240" cy="6760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486080" y="3024360"/>
            <a:ext cx="617220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6737" descr=""/>
          <p:cNvPicPr/>
          <p:nvPr/>
        </p:nvPicPr>
        <p:blipFill>
          <a:blip r:embed="rId1"/>
          <a:stretch/>
        </p:blipFill>
        <p:spPr>
          <a:xfrm>
            <a:off x="495360" y="2219400"/>
            <a:ext cx="8153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5713" descr=""/>
          <p:cNvPicPr/>
          <p:nvPr/>
        </p:nvPicPr>
        <p:blipFill>
          <a:blip r:embed="rId1"/>
          <a:stretch/>
        </p:blipFill>
        <p:spPr>
          <a:xfrm>
            <a:off x="438120" y="2109960"/>
            <a:ext cx="826776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4689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34400" cy="560088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4690"/>
          <p:cNvSpPr/>
          <p:nvPr/>
        </p:nvSpPr>
        <p:spPr>
          <a:xfrm>
            <a:off x="865080" y="1003320"/>
            <a:ext cx="60832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4691"/>
          <p:cNvSpPr/>
          <p:nvPr/>
        </p:nvSpPr>
        <p:spPr>
          <a:xfrm>
            <a:off x="1271520" y="1447920"/>
            <a:ext cx="65404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4692"/>
          <p:cNvSpPr/>
          <p:nvPr/>
        </p:nvSpPr>
        <p:spPr>
          <a:xfrm>
            <a:off x="1093680" y="1905120"/>
            <a:ext cx="654048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4693"/>
          <p:cNvSpPr/>
          <p:nvPr/>
        </p:nvSpPr>
        <p:spPr>
          <a:xfrm>
            <a:off x="1055520" y="2577960"/>
            <a:ext cx="65408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4695"/>
          <p:cNvSpPr/>
          <p:nvPr/>
        </p:nvSpPr>
        <p:spPr>
          <a:xfrm>
            <a:off x="954000" y="3492360"/>
            <a:ext cx="654048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4696"/>
          <p:cNvSpPr/>
          <p:nvPr/>
        </p:nvSpPr>
        <p:spPr>
          <a:xfrm>
            <a:off x="1258920" y="4368960"/>
            <a:ext cx="60832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4697"/>
          <p:cNvSpPr/>
          <p:nvPr/>
        </p:nvSpPr>
        <p:spPr>
          <a:xfrm>
            <a:off x="1563840" y="4851360"/>
            <a:ext cx="6895800" cy="67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4698"/>
          <p:cNvSpPr/>
          <p:nvPr/>
        </p:nvSpPr>
        <p:spPr>
          <a:xfrm>
            <a:off x="1335240" y="5702400"/>
            <a:ext cx="60832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4699"/>
          <p:cNvSpPr/>
          <p:nvPr/>
        </p:nvSpPr>
        <p:spPr>
          <a:xfrm>
            <a:off x="1449360" y="6159600"/>
            <a:ext cx="62913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3665" descr=""/>
          <p:cNvPicPr/>
          <p:nvPr/>
        </p:nvPicPr>
        <p:blipFill>
          <a:blip r:embed="rId1"/>
          <a:stretch/>
        </p:blipFill>
        <p:spPr>
          <a:xfrm>
            <a:off x="476280" y="1762200"/>
            <a:ext cx="8191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2641" descr=""/>
          <p:cNvPicPr/>
          <p:nvPr/>
        </p:nvPicPr>
        <p:blipFill>
          <a:blip r:embed="rId1"/>
          <a:stretch/>
        </p:blipFill>
        <p:spPr>
          <a:xfrm>
            <a:off x="542880" y="1085760"/>
            <a:ext cx="80582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1617" descr=""/>
          <p:cNvPicPr/>
          <p:nvPr/>
        </p:nvPicPr>
        <p:blipFill>
          <a:blip r:embed="rId1"/>
          <a:stretch/>
        </p:blipFill>
        <p:spPr>
          <a:xfrm>
            <a:off x="604800" y="2000160"/>
            <a:ext cx="7934400" cy="285768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1618"/>
          <p:cNvSpPr/>
          <p:nvPr/>
        </p:nvSpPr>
        <p:spPr>
          <a:xfrm>
            <a:off x="1944720" y="2959200"/>
            <a:ext cx="1114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0593" descr=""/>
          <p:cNvPicPr/>
          <p:nvPr/>
        </p:nvPicPr>
        <p:blipFill>
          <a:blip r:embed="rId1"/>
          <a:stretch/>
        </p:blipFill>
        <p:spPr>
          <a:xfrm>
            <a:off x="771480" y="1038240"/>
            <a:ext cx="7601040" cy="478152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10594"/>
          <p:cNvSpPr/>
          <p:nvPr/>
        </p:nvSpPr>
        <p:spPr>
          <a:xfrm>
            <a:off x="1386000" y="1015920"/>
            <a:ext cx="390672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0595"/>
          <p:cNvSpPr/>
          <p:nvPr/>
        </p:nvSpPr>
        <p:spPr>
          <a:xfrm>
            <a:off x="1868400" y="1473120"/>
            <a:ext cx="6375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0596"/>
          <p:cNvSpPr/>
          <p:nvPr/>
        </p:nvSpPr>
        <p:spPr>
          <a:xfrm>
            <a:off x="1754280" y="1968480"/>
            <a:ext cx="637524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0597"/>
          <p:cNvSpPr/>
          <p:nvPr/>
        </p:nvSpPr>
        <p:spPr>
          <a:xfrm>
            <a:off x="1754280" y="2489040"/>
            <a:ext cx="637524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0598"/>
          <p:cNvSpPr/>
          <p:nvPr/>
        </p:nvSpPr>
        <p:spPr>
          <a:xfrm>
            <a:off x="1792440" y="3149640"/>
            <a:ext cx="637524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0599"/>
          <p:cNvSpPr/>
          <p:nvPr/>
        </p:nvSpPr>
        <p:spPr>
          <a:xfrm>
            <a:off x="1589040" y="4076640"/>
            <a:ext cx="637560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0600"/>
          <p:cNvSpPr/>
          <p:nvPr/>
        </p:nvSpPr>
        <p:spPr>
          <a:xfrm>
            <a:off x="1690560" y="4876920"/>
            <a:ext cx="637560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0601"/>
          <p:cNvSpPr/>
          <p:nvPr/>
        </p:nvSpPr>
        <p:spPr>
          <a:xfrm>
            <a:off x="1779480" y="5334120"/>
            <a:ext cx="637560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09569" descr=""/>
          <p:cNvPicPr/>
          <p:nvPr/>
        </p:nvPicPr>
        <p:blipFill>
          <a:blip r:embed="rId1"/>
          <a:stretch/>
        </p:blipFill>
        <p:spPr>
          <a:xfrm>
            <a:off x="614520" y="2224080"/>
            <a:ext cx="7914960" cy="240984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09570"/>
          <p:cNvSpPr/>
          <p:nvPr/>
        </p:nvSpPr>
        <p:spPr>
          <a:xfrm>
            <a:off x="1538280" y="3162240"/>
            <a:ext cx="6994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9571"/>
          <p:cNvSpPr/>
          <p:nvPr/>
        </p:nvSpPr>
        <p:spPr>
          <a:xfrm>
            <a:off x="1576440" y="3657600"/>
            <a:ext cx="6994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9572"/>
          <p:cNvSpPr/>
          <p:nvPr/>
        </p:nvSpPr>
        <p:spPr>
          <a:xfrm>
            <a:off x="1589040" y="4140360"/>
            <a:ext cx="69944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91440" cy="52290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7380360" y="256536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4522680" y="3987720"/>
            <a:ext cx="55404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4446720" y="4470480"/>
            <a:ext cx="120492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4897440" y="5397480"/>
            <a:ext cx="75420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5678640" y="5892840"/>
            <a:ext cx="65880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390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49910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2881" descr=""/>
          <p:cNvPicPr/>
          <p:nvPr/>
        </p:nvPicPr>
        <p:blipFill>
          <a:blip r:embed="rId1"/>
          <a:stretch/>
        </p:blipFill>
        <p:spPr>
          <a:xfrm>
            <a:off x="333360" y="1152360"/>
            <a:ext cx="8477280" cy="455328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2882"/>
          <p:cNvSpPr/>
          <p:nvPr/>
        </p:nvSpPr>
        <p:spPr>
          <a:xfrm>
            <a:off x="8155080" y="2666880"/>
            <a:ext cx="4064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2883"/>
          <p:cNvSpPr/>
          <p:nvPr/>
        </p:nvSpPr>
        <p:spPr>
          <a:xfrm>
            <a:off x="8129520" y="4165560"/>
            <a:ext cx="4064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2884"/>
          <p:cNvSpPr/>
          <p:nvPr/>
        </p:nvSpPr>
        <p:spPr>
          <a:xfrm>
            <a:off x="8155080" y="5079960"/>
            <a:ext cx="4064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309600" y="947880"/>
            <a:ext cx="8524800" cy="496224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649440" y="2184480"/>
            <a:ext cx="42829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59"/>
          <p:cNvSpPr/>
          <p:nvPr/>
        </p:nvSpPr>
        <p:spPr>
          <a:xfrm>
            <a:off x="649440" y="2552760"/>
            <a:ext cx="4282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1860"/>
          <p:cNvSpPr/>
          <p:nvPr/>
        </p:nvSpPr>
        <p:spPr>
          <a:xfrm>
            <a:off x="1017720" y="3086280"/>
            <a:ext cx="614664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1861"/>
          <p:cNvSpPr/>
          <p:nvPr/>
        </p:nvSpPr>
        <p:spPr>
          <a:xfrm>
            <a:off x="852480" y="3403440"/>
            <a:ext cx="614664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1862"/>
          <p:cNvSpPr/>
          <p:nvPr/>
        </p:nvSpPr>
        <p:spPr>
          <a:xfrm>
            <a:off x="852480" y="3708360"/>
            <a:ext cx="61466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3"/>
          <p:cNvSpPr/>
          <p:nvPr/>
        </p:nvSpPr>
        <p:spPr>
          <a:xfrm>
            <a:off x="878040" y="4368960"/>
            <a:ext cx="6146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1864"/>
          <p:cNvSpPr/>
          <p:nvPr/>
        </p:nvSpPr>
        <p:spPr>
          <a:xfrm>
            <a:off x="1068480" y="4876920"/>
            <a:ext cx="42829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65"/>
          <p:cNvSpPr/>
          <p:nvPr/>
        </p:nvSpPr>
        <p:spPr>
          <a:xfrm>
            <a:off x="1144440" y="5181480"/>
            <a:ext cx="75312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1866"/>
          <p:cNvSpPr/>
          <p:nvPr/>
        </p:nvSpPr>
        <p:spPr>
          <a:xfrm>
            <a:off x="1055520" y="5537160"/>
            <a:ext cx="75312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0833" descr=""/>
          <p:cNvPicPr/>
          <p:nvPr/>
        </p:nvPicPr>
        <p:blipFill>
          <a:blip r:embed="rId1"/>
          <a:stretch/>
        </p:blipFill>
        <p:spPr>
          <a:xfrm>
            <a:off x="438120" y="1085760"/>
            <a:ext cx="826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980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62840" cy="551520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9810"/>
          <p:cNvSpPr/>
          <p:nvPr/>
        </p:nvSpPr>
        <p:spPr>
          <a:xfrm>
            <a:off x="903240" y="1066680"/>
            <a:ext cx="734076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9811"/>
          <p:cNvSpPr/>
          <p:nvPr/>
        </p:nvSpPr>
        <p:spPr>
          <a:xfrm>
            <a:off x="1081080" y="1625760"/>
            <a:ext cx="734076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9812"/>
          <p:cNvSpPr/>
          <p:nvPr/>
        </p:nvSpPr>
        <p:spPr>
          <a:xfrm>
            <a:off x="1093680" y="2070000"/>
            <a:ext cx="734076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9813"/>
          <p:cNvSpPr/>
          <p:nvPr/>
        </p:nvSpPr>
        <p:spPr>
          <a:xfrm>
            <a:off x="992160" y="2629080"/>
            <a:ext cx="734076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9814"/>
          <p:cNvSpPr/>
          <p:nvPr/>
        </p:nvSpPr>
        <p:spPr>
          <a:xfrm>
            <a:off x="941400" y="3479760"/>
            <a:ext cx="734076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9815"/>
          <p:cNvSpPr/>
          <p:nvPr/>
        </p:nvSpPr>
        <p:spPr>
          <a:xfrm>
            <a:off x="890640" y="4419720"/>
            <a:ext cx="734040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9816"/>
          <p:cNvSpPr/>
          <p:nvPr/>
        </p:nvSpPr>
        <p:spPr>
          <a:xfrm>
            <a:off x="1246320" y="5207040"/>
            <a:ext cx="73404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9817"/>
          <p:cNvSpPr/>
          <p:nvPr/>
        </p:nvSpPr>
        <p:spPr>
          <a:xfrm>
            <a:off x="1449360" y="5715000"/>
            <a:ext cx="734076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9818"/>
          <p:cNvSpPr/>
          <p:nvPr/>
        </p:nvSpPr>
        <p:spPr>
          <a:xfrm>
            <a:off x="1386000" y="6222960"/>
            <a:ext cx="73404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8785" descr=""/>
          <p:cNvPicPr/>
          <p:nvPr/>
        </p:nvPicPr>
        <p:blipFill>
          <a:blip r:embed="rId1"/>
          <a:stretch/>
        </p:blipFill>
        <p:spPr>
          <a:xfrm>
            <a:off x="433440" y="1628640"/>
            <a:ext cx="8277120" cy="360072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18786"/>
          <p:cNvSpPr/>
          <p:nvPr/>
        </p:nvSpPr>
        <p:spPr>
          <a:xfrm>
            <a:off x="7875720" y="4254480"/>
            <a:ext cx="406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7761" descr=""/>
          <p:cNvPicPr/>
          <p:nvPr/>
        </p:nvPicPr>
        <p:blipFill>
          <a:blip r:embed="rId1"/>
          <a:stretch/>
        </p:blipFill>
        <p:spPr>
          <a:xfrm>
            <a:off x="457200" y="890640"/>
            <a:ext cx="8229600" cy="507672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7762"/>
          <p:cNvSpPr/>
          <p:nvPr/>
        </p:nvSpPr>
        <p:spPr>
          <a:xfrm>
            <a:off x="2567160" y="4559400"/>
            <a:ext cx="13572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7763"/>
          <p:cNvSpPr/>
          <p:nvPr/>
        </p:nvSpPr>
        <p:spPr>
          <a:xfrm>
            <a:off x="5716440" y="4533840"/>
            <a:ext cx="406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7764"/>
          <p:cNvSpPr/>
          <p:nvPr/>
        </p:nvSpPr>
        <p:spPr>
          <a:xfrm>
            <a:off x="3456000" y="5054760"/>
            <a:ext cx="4064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7765"/>
          <p:cNvSpPr/>
          <p:nvPr/>
        </p:nvSpPr>
        <p:spPr>
          <a:xfrm>
            <a:off x="2592360" y="5549760"/>
            <a:ext cx="406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7766"/>
          <p:cNvSpPr/>
          <p:nvPr/>
        </p:nvSpPr>
        <p:spPr>
          <a:xfrm>
            <a:off x="7392960" y="5562720"/>
            <a:ext cx="406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8:59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